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243-92C6-4FC5-8F80-838C6661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DF5-DA5F-470B-873C-B010122D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F69-A5B5-45DB-8159-6E629170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C93-0DBC-47E1-9E13-C29430E5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B6A-5F1D-44DD-BA3F-A985FEE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473-3ACA-4A5E-9E81-B3EF9892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043-3BED-41C9-A30F-7B6D21E4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EB8-2EF1-415B-AA91-16A4A02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8EB-7F54-497E-B384-3F50264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962-D2E7-4F0C-9F3F-198F173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C0F-D82A-442A-BD17-8E5615F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25F-0A4F-48E2-80A7-699B4E51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51C9-6103-4E70-855A-1F461261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533520"/>
            <a:ext cx="7391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LLS AND TECHNIQUES/N.A.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 FL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Nathan Robertson and Gail Emms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53352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n skills and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withi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iod Star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thod of gathering data did you use in badminton last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five different techniques we can use in badmint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3 specific schedules called? (we will be using these on Thurs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609480"/>
            <a:ext cx="7239240" cy="541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685800"/>
            <a:ext cx="731520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CYCLE OF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ive minutes think and then make a list of everything within the cycle of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hen discuss this as a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429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609480"/>
            <a:ext cx="7238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arts – Parts 1 &amp; 3 completed (some re-sits necessary). Parts 2 &amp; 4 completed under exam conditions.  CLOSE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rks is a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pportunity to re-sit each part of the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your NAB Timeline for assessment 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Nathan Robertson and Gail Emm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09480"/>
            <a:ext cx="723888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1 completed (Investig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2 exam  (Analyse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 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3 exam (Devel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4 homework (Evaluat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urs 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B.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685800"/>
            <a:ext cx="72388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ATIONS OF YOU and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complete a training programme which will aim to improve your performance in a strok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expected to keep a record of your training and a training diary to log your thoughts and feelings abou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 you can expect full support and ad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notes to help you revise for the NAB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Nathan Robertson and Gail Emm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09480"/>
            <a:ext cx="72388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we complete our plan of 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n 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withi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0:56:37Z</dcterms:created>
  <dc:creator>Hamilton</dc:creator>
  <dc:description/>
  <dc:language>en-US</dc:language>
  <cp:lastModifiedBy>FlemingC1</cp:lastModifiedBy>
  <dcterms:modified xsi:type="dcterms:W3CDTF">2009-08-17T10:16:38Z</dcterms:modified>
  <cp:revision>11</cp:revision>
  <dc:subject/>
  <dc:title>Slide 1</dc:title>
</cp:coreProperties>
</file>